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6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317C-5A2A-4F38-B4F6-F9D2DCBA2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58C9-5672-4E2B-8157-2CEDE125A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14A5-581F-42FC-9FA7-7F8DC935C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C847-9DD8-4883-944B-6D7EB1510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434CE-BEAF-4BC4-B738-E324F8FFC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4995F-3BE6-41C9-913E-43604A6D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F0E8B-3D09-49C4-AA16-3AA1E7C4C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0624A-F73C-44BB-B101-10EDF6E9A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57C03-8CBC-41FA-A1BC-14930E00F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D8439-96B7-43C5-87FD-E6EEB124D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51952-B2B7-443C-B6EE-AD606D4D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29A6-C2F0-4A3A-A579-36316E12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80D4C-5F22-49E3-AD64-6B785E5B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788EB-CBC9-4039-A023-5D403FEC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B07AC-7245-43CF-9904-E69E1A84B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5403A-EAA7-4419-A643-244F077D6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053AB-EE0F-4AE4-A4A1-0907F9C70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D27F-C155-4ACB-8653-A4FAA7D82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069E-529D-42C9-A330-EF735FCA4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7EE1-EA3B-484C-B4D7-A0AD5BF7C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8BFB-C36B-455C-B013-AD1B0A8C4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9A34-8F36-450D-849F-15D6EF42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A61C-70F4-4A28-9E91-854597FD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7F66-FBCB-4FBE-9951-3C497AC4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1086B-2008-4CB3-97B8-E12EE5DE23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76518-589C-4CAA-9AAB-43AF1A3B80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Ритмическая гимнастик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итмопластические напра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700360" y="3500280"/>
            <a:ext cx="380988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rcRect l="2158" t="11323" r="11498" b="6859"/>
          <a:stretch/>
        </p:blipFill>
        <p:spPr>
          <a:xfrm>
            <a:off x="250920" y="260280"/>
            <a:ext cx="8569080" cy="63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rcRect l="2158" t="11323" r="11498" b="6859"/>
          <a:stretch/>
        </p:blipFill>
        <p:spPr>
          <a:xfrm>
            <a:off x="324000" y="333360"/>
            <a:ext cx="8496000" cy="63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rcRect l="2158" t="11323" r="11498" b="6859"/>
          <a:stretch/>
        </p:blipFill>
        <p:spPr>
          <a:xfrm>
            <a:off x="250920" y="260280"/>
            <a:ext cx="8569080" cy="63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rcRect l="2158" t="11323" r="11498" b="6859"/>
          <a:stretch/>
        </p:blipFill>
        <p:spPr>
          <a:xfrm>
            <a:off x="250920" y="260280"/>
            <a:ext cx="8642160" cy="64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rcRect l="2158" t="11323" r="11498" b="6859"/>
          <a:stretch/>
        </p:blipFill>
        <p:spPr>
          <a:xfrm>
            <a:off x="250920" y="260280"/>
            <a:ext cx="8569080" cy="63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rcRect l="3343" t="11323" r="11498" b="6859"/>
          <a:stretch/>
        </p:blipFill>
        <p:spPr>
          <a:xfrm>
            <a:off x="179280" y="189000"/>
            <a:ext cx="8640720" cy="65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rcRect l="2158" t="11323" r="11498" b="6859"/>
          <a:stretch/>
        </p:blipFill>
        <p:spPr>
          <a:xfrm>
            <a:off x="179280" y="189000"/>
            <a:ext cx="8713800" cy="64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Новое в ритмической гимнастике (стретчинг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TCHING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переводе с английского означает растягивание.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тодика стречинга состоит в том, что человек принимает позу,растягивающую определенную группу мышц, и остается в таком положении на некоторое время.Такие упражнения способствуют регуляции тонуса мышц, эластичности апоневрозов, сухожилий и прилегающих связок.Все движения должны выполняться в медленном темпе с большой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мплитудой, что увеличивает подвижность суставов и развивает чувство владения своим телом. По характеру выполнения упражнения стречинга в большей мере отвечают назначению заключительной части комплексов ритмической физической нагрузки,расслабле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Упражнения стретчинг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723960"/>
            <a:ext cx="9144000" cy="61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Ритмопластические направлен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настоящее время в мире насчитывается более 50 разновидностей ритмопластических направлений в гимнастике. Это аэробика, спорт аэробика, брейкдим, степ аэробика, степ аэробика-стретчинг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и.т.д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149400"/>
            <a:ext cx="9144000" cy="65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220680"/>
            <a:ext cx="9144000" cy="64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Методика проведения занятий по ритмической гимнастики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050920" y="2205000"/>
            <a:ext cx="532764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0" y="0"/>
          <a:ext cx="9109080" cy="6931080"/>
        </p:xfrm>
        <a:graphic>
          <a:graphicData uri="http://schemas.openxmlformats.org/drawingml/2006/table">
            <a:tbl>
              <a:tblPr/>
              <a:tblGrid>
                <a:gridCol w="2057400"/>
                <a:gridCol w="1138320"/>
                <a:gridCol w="919080"/>
                <a:gridCol w="4994280"/>
              </a:tblGrid>
              <a:tr h="119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8e4"/>
                          </a:solidFill>
                          <a:latin typeface="Tahoma"/>
                        </a:rPr>
                        <a:t>Части комплекс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99ff99"/>
                      </a:solidFill>
                    </a:lnL>
                    <a:lnR w="18720">
                      <a:solidFill>
                        <a:srgbClr val="99ff99"/>
                      </a:solidFill>
                    </a:lnR>
                    <a:lnT w="18720">
                      <a:solidFill>
                        <a:srgbClr val="99ff99"/>
                      </a:solidFill>
                    </a:lnT>
                    <a:lnB w="18720">
                      <a:solidFill>
                        <a:srgbClr val="99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8e4"/>
                          </a:solidFill>
                          <a:latin typeface="Tahoma"/>
                        </a:rPr>
                        <a:t>Дли-тель-н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99ff99"/>
                      </a:solidFill>
                    </a:lnL>
                    <a:lnR w="18720">
                      <a:solidFill>
                        <a:srgbClr val="99ff99"/>
                      </a:solidFill>
                    </a:lnR>
                    <a:lnT w="18720">
                      <a:solidFill>
                        <a:srgbClr val="99ff99"/>
                      </a:solidFill>
                    </a:lnT>
                    <a:lnB w="18720">
                      <a:solidFill>
                        <a:srgbClr val="99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8e4"/>
                          </a:solidFill>
                          <a:latin typeface="Tahoma"/>
                        </a:rPr>
                        <a:t>Кол-во упражне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99ff99"/>
                      </a:solidFill>
                    </a:lnL>
                    <a:lnR w="18720">
                      <a:solidFill>
                        <a:srgbClr val="99ff99"/>
                      </a:solidFill>
                    </a:lnR>
                    <a:lnT w="18720">
                      <a:solidFill>
                        <a:srgbClr val="99ff99"/>
                      </a:solidFill>
                    </a:lnT>
                    <a:lnB w="18720">
                      <a:solidFill>
                        <a:srgbClr val="99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8e4"/>
                          </a:solidFill>
                          <a:latin typeface="Tahoma"/>
                        </a:rPr>
                        <a:t>Преимущественная направленность упражнен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99ff99"/>
                      </a:solidFill>
                    </a:lnL>
                    <a:lnR w="18720">
                      <a:solidFill>
                        <a:srgbClr val="99ff99"/>
                      </a:solidFill>
                    </a:lnR>
                    <a:lnT w="18720">
                      <a:solidFill>
                        <a:srgbClr val="99ff99"/>
                      </a:solidFill>
                    </a:lnT>
                    <a:lnB w="18720">
                      <a:solidFill>
                        <a:srgbClr val="99ff99"/>
                      </a:solidFill>
                    </a:lnB>
                    <a:noFill/>
                  </a:tcPr>
                </a:tc>
              </a:tr>
              <a:tr h="125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готовитель-на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99ff99"/>
                      </a:solidFill>
                    </a:lnL>
                    <a:lnR w="18720">
                      <a:solidFill>
                        <a:srgbClr val="99ff99"/>
                      </a:solidFill>
                    </a:lnR>
                    <a:lnT w="18720">
                      <a:solidFill>
                        <a:srgbClr val="99ff99"/>
                      </a:solidFill>
                    </a:lnT>
                    <a:lnB w="18720">
                      <a:solidFill>
                        <a:srgbClr val="99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 м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99ff99"/>
                      </a:solidFill>
                    </a:lnL>
                    <a:lnR w="18720">
                      <a:solidFill>
                        <a:srgbClr val="99ff99"/>
                      </a:solidFill>
                    </a:lnR>
                    <a:lnT w="18720">
                      <a:solidFill>
                        <a:srgbClr val="99ff99"/>
                      </a:solidFill>
                    </a:lnT>
                    <a:lnB w="18720">
                      <a:solidFill>
                        <a:srgbClr val="99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 упр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99ff99"/>
                      </a:solidFill>
                    </a:lnL>
                    <a:lnR w="18720">
                      <a:solidFill>
                        <a:srgbClr val="99ff99"/>
                      </a:solidFill>
                    </a:lnR>
                    <a:lnT w="18720">
                      <a:solidFill>
                        <a:srgbClr val="99ff99"/>
                      </a:solidFill>
                    </a:lnT>
                    <a:lnB w="18720">
                      <a:solidFill>
                        <a:srgbClr val="99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buClr>
                          <a:srgbClr val="99ff99"/>
                        </a:buClr>
                        <a:buSzPct val="8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 осанк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buClr>
                          <a:srgbClr val="99ff99"/>
                        </a:buClr>
                        <a:buSzPct val="8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ипа ходьбы на мест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buClr>
                          <a:srgbClr val="99ff99"/>
                        </a:buClr>
                        <a:buSzPct val="8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анцевальные шаг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-6. Общего воздейств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99ff99"/>
                      </a:solidFill>
                    </a:lnL>
                    <a:lnR w="18720">
                      <a:solidFill>
                        <a:srgbClr val="99ff99"/>
                      </a:solidFill>
                    </a:lnR>
                    <a:lnT w="18720">
                      <a:solidFill>
                        <a:srgbClr val="99ff99"/>
                      </a:solidFill>
                    </a:lnT>
                    <a:lnB w="18720">
                      <a:solidFill>
                        <a:srgbClr val="99ff99"/>
                      </a:solidFill>
                    </a:lnB>
                    <a:noFill/>
                  </a:tcPr>
                </a:tc>
              </a:tr>
              <a:tr h="125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сновная (упражнения из исходного положения стоя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99ff99"/>
                      </a:solidFill>
                    </a:lnL>
                    <a:lnR w="18720">
                      <a:solidFill>
                        <a:srgbClr val="99ff99"/>
                      </a:solidFill>
                    </a:lnR>
                    <a:lnT w="18720">
                      <a:solidFill>
                        <a:srgbClr val="99ff99"/>
                      </a:solidFill>
                    </a:lnT>
                    <a:lnB w="18720">
                      <a:solidFill>
                        <a:srgbClr val="99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 м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99ff99"/>
                      </a:solidFill>
                    </a:lnL>
                    <a:lnR w="18720">
                      <a:solidFill>
                        <a:srgbClr val="99ff99"/>
                      </a:solidFill>
                    </a:lnR>
                    <a:lnT w="18720">
                      <a:solidFill>
                        <a:srgbClr val="99ff99"/>
                      </a:solidFill>
                    </a:lnT>
                    <a:lnB w="18720">
                      <a:solidFill>
                        <a:srgbClr val="99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 упр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99ff99"/>
                      </a:solidFill>
                    </a:lnL>
                    <a:lnR w="18720">
                      <a:solidFill>
                        <a:srgbClr val="99ff99"/>
                      </a:solidFill>
                    </a:lnR>
                    <a:lnT w="18720">
                      <a:solidFill>
                        <a:srgbClr val="99ff99"/>
                      </a:solidFill>
                    </a:lnT>
                    <a:lnB w="18720">
                      <a:solidFill>
                        <a:srgbClr val="99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buClr>
                          <a:srgbClr val="99ff99"/>
                        </a:buClr>
                        <a:buSzPct val="8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ля мышц ше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-3. Для рук и плечевого пояс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-6. Для туловищ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-9. Для но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99ff99"/>
                      </a:solidFill>
                    </a:lnL>
                    <a:lnR w="18720">
                      <a:solidFill>
                        <a:srgbClr val="99ff99"/>
                      </a:solidFill>
                    </a:lnR>
                    <a:lnT w="18720">
                      <a:solidFill>
                        <a:srgbClr val="99ff99"/>
                      </a:solidFill>
                    </a:lnT>
                    <a:lnB w="18720">
                      <a:solidFill>
                        <a:srgbClr val="99ff99"/>
                      </a:solidFill>
                    </a:lnB>
                    <a:noFill/>
                  </a:tcPr>
                </a:tc>
              </a:tr>
              <a:tr h="75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сновная часть («пиковая нагрузка»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99ff99"/>
                      </a:solidFill>
                    </a:lnL>
                    <a:lnR w="18720">
                      <a:solidFill>
                        <a:srgbClr val="99ff99"/>
                      </a:solidFill>
                    </a:lnR>
                    <a:lnT w="18720">
                      <a:solidFill>
                        <a:srgbClr val="99ff99"/>
                      </a:solidFill>
                    </a:lnT>
                    <a:lnB w="18720">
                      <a:solidFill>
                        <a:srgbClr val="99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 м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99ff99"/>
                      </a:solidFill>
                    </a:lnL>
                    <a:lnR w="18720">
                      <a:solidFill>
                        <a:srgbClr val="99ff99"/>
                      </a:solidFill>
                    </a:lnR>
                    <a:lnT w="18720">
                      <a:solidFill>
                        <a:srgbClr val="99ff99"/>
                      </a:solidFill>
                    </a:lnT>
                    <a:lnB w="18720">
                      <a:solidFill>
                        <a:srgbClr val="99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99ff99"/>
                      </a:solidFill>
                    </a:lnL>
                    <a:lnR w="18720">
                      <a:solidFill>
                        <a:srgbClr val="99ff99"/>
                      </a:solidFill>
                    </a:lnR>
                    <a:lnT w="18720">
                      <a:solidFill>
                        <a:srgbClr val="99ff99"/>
                      </a:solidFill>
                    </a:lnT>
                    <a:lnB w="18720">
                      <a:solidFill>
                        <a:srgbClr val="99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нообразные виды бега и прыжк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99ff99"/>
                      </a:solidFill>
                    </a:lnL>
                    <a:lnR w="18720">
                      <a:solidFill>
                        <a:srgbClr val="99ff99"/>
                      </a:solidFill>
                    </a:lnR>
                    <a:lnT w="18720">
                      <a:solidFill>
                        <a:srgbClr val="99ff99"/>
                      </a:solidFill>
                    </a:lnT>
                    <a:lnB w="18720">
                      <a:solidFill>
                        <a:srgbClr val="99ff99"/>
                      </a:solidFill>
                    </a:lnB>
                    <a:noFill/>
                  </a:tcPr>
                </a:tc>
              </a:tr>
              <a:tr h="156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сновная часть (упражнения из исходных положений сидя и лежа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99ff99"/>
                      </a:solidFill>
                    </a:lnL>
                    <a:lnR w="18720">
                      <a:solidFill>
                        <a:srgbClr val="99ff99"/>
                      </a:solidFill>
                    </a:lnR>
                    <a:lnT w="18720">
                      <a:solidFill>
                        <a:srgbClr val="99ff99"/>
                      </a:solidFill>
                    </a:lnT>
                    <a:lnB w="18720">
                      <a:solidFill>
                        <a:srgbClr val="99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 м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99ff99"/>
                      </a:solidFill>
                    </a:lnL>
                    <a:lnR w="18720">
                      <a:solidFill>
                        <a:srgbClr val="99ff99"/>
                      </a:solidFill>
                    </a:lnR>
                    <a:lnT w="18720">
                      <a:solidFill>
                        <a:srgbClr val="99ff99"/>
                      </a:solidFill>
                    </a:lnT>
                    <a:lnB w="18720">
                      <a:solidFill>
                        <a:srgbClr val="99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упр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99ff99"/>
                      </a:solidFill>
                    </a:lnL>
                    <a:lnR w="18720">
                      <a:solidFill>
                        <a:srgbClr val="99ff99"/>
                      </a:solidFill>
                    </a:lnR>
                    <a:lnT w="18720">
                      <a:solidFill>
                        <a:srgbClr val="99ff99"/>
                      </a:solidFill>
                    </a:lnT>
                    <a:lnB w="18720">
                      <a:solidFill>
                        <a:srgbClr val="99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buClr>
                          <a:srgbClr val="99ff99"/>
                        </a:buClr>
                        <a:buSzPct val="8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уки   2. Туловище  3. Таз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. Брюшной пресс 5. Ног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. Общего воздейств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. Брюшной пресс 8.Ног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.Общего воздейств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99ff99"/>
                      </a:solidFill>
                    </a:lnL>
                    <a:lnR w="18720">
                      <a:solidFill>
                        <a:srgbClr val="99ff99"/>
                      </a:solidFill>
                    </a:lnR>
                    <a:lnT w="18720">
                      <a:solidFill>
                        <a:srgbClr val="99ff99"/>
                      </a:solidFill>
                    </a:lnT>
                    <a:lnB w="18720">
                      <a:solidFill>
                        <a:srgbClr val="99ff99"/>
                      </a:solidFill>
                    </a:lnB>
                    <a:noFill/>
                  </a:tcPr>
                </a:tc>
              </a:tr>
              <a:tr h="95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ключительная ча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99ff99"/>
                      </a:solidFill>
                    </a:lnL>
                    <a:lnR w="18720">
                      <a:solidFill>
                        <a:srgbClr val="99ff99"/>
                      </a:solidFill>
                    </a:lnR>
                    <a:lnT w="18720">
                      <a:solidFill>
                        <a:srgbClr val="99ff99"/>
                      </a:solidFill>
                    </a:lnT>
                    <a:lnB w="18720">
                      <a:solidFill>
                        <a:srgbClr val="99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 м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99ff99"/>
                      </a:solidFill>
                    </a:lnL>
                    <a:lnR w="18720">
                      <a:solidFill>
                        <a:srgbClr val="99ff99"/>
                      </a:solidFill>
                    </a:lnR>
                    <a:lnT w="18720">
                      <a:solidFill>
                        <a:srgbClr val="99ff99"/>
                      </a:solidFill>
                    </a:lnT>
                    <a:lnB w="18720">
                      <a:solidFill>
                        <a:srgbClr val="99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 упр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99ff99"/>
                      </a:solidFill>
                    </a:lnL>
                    <a:lnR w="18720">
                      <a:solidFill>
                        <a:srgbClr val="99ff99"/>
                      </a:solidFill>
                    </a:lnR>
                    <a:lnT w="18720">
                      <a:solidFill>
                        <a:srgbClr val="99ff99"/>
                      </a:solidFill>
                    </a:lnT>
                    <a:lnB w="18720">
                      <a:solidFill>
                        <a:srgbClr val="99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buClr>
                          <a:srgbClr val="99ff99"/>
                        </a:buClr>
                        <a:buSzPct val="8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 гибк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buClr>
                          <a:srgbClr val="99ff99"/>
                        </a:buClr>
                        <a:buSzPct val="8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 расслабл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buClr>
                          <a:srgbClr val="99ff99"/>
                        </a:buClr>
                        <a:buSzPct val="8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ыхательн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99ff99"/>
                      </a:solidFill>
                    </a:lnL>
                    <a:lnR w="18720">
                      <a:solidFill>
                        <a:srgbClr val="99ff99"/>
                      </a:solidFill>
                    </a:lnR>
                    <a:lnT w="18720">
                      <a:solidFill>
                        <a:srgbClr val="99ff99"/>
                      </a:solidFill>
                    </a:lnT>
                    <a:lnB w="18720">
                      <a:solidFill>
                        <a:srgbClr val="99ff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процессе правильно организованных занятий ритмической гимнастикой улучшается координация движений, совершенствуется чувство ритма и темпа, развиваются положительные эмоции, воспитываются коллективизм, уверенность в себе, эстетические чувст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уть этих форм состоит в выполнении комплексов физических упражнений в сочетании с беговыми, прыжковами,танцевальными движениями, выполняемых преимущественно поточным способом под современную музы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личия заключаются в применяемых средствах. В одних случаях физические упражнения комбинируются с джаз и диско танцами в других упражнения атлетического характера.Занятия ритмической гимнастикой проходят на высоком эмоциональном уровне, дают значительную нагрузку на сердечно-сосудистую систему,развивают гибкос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2421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Направления ритмической гимнастики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rcRect l="2158" t="11323" r="10337" b="6859"/>
          <a:stretch/>
        </p:blipFill>
        <p:spPr>
          <a:xfrm>
            <a:off x="250920" y="189000"/>
            <a:ext cx="8713800" cy="638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rcRect l="2158" t="11323" r="11498" b="6859"/>
          <a:stretch/>
        </p:blipFill>
        <p:spPr>
          <a:xfrm>
            <a:off x="250920" y="260280"/>
            <a:ext cx="8642160" cy="64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rcRect l="2158" t="11323" r="11498" b="6859"/>
          <a:stretch/>
        </p:blipFill>
        <p:spPr>
          <a:xfrm>
            <a:off x="250920" y="260280"/>
            <a:ext cx="8569080" cy="63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rcRect l="2158" t="11323" r="11498" b="6859"/>
          <a:stretch/>
        </p:blipFill>
        <p:spPr>
          <a:xfrm>
            <a:off x="250920" y="260280"/>
            <a:ext cx="8569080" cy="63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7T13:07:38Z</dcterms:created>
  <dc:creator>Ученик</dc:creator>
  <dc:description/>
  <dc:language>en-US</dc:language>
  <cp:lastModifiedBy>я</cp:lastModifiedBy>
  <dcterms:modified xsi:type="dcterms:W3CDTF">2007-02-12T16:49:12Z</dcterms:modified>
  <cp:revision>10</cp:revision>
  <dc:subject/>
  <dc:title>Ритмическая гимнастика</dc:title>
</cp:coreProperties>
</file>